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F60-8D94-4B29-80BE-A0EC02D3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292-3E32-4C25-9B6B-F34CC932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922-1EE5-4AFD-B453-652708EC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6C3-2973-466B-A8C9-5F43BA0D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6A6-DEFB-442F-8387-166D5E27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7BB-492E-4956-9B1B-C9BCC190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EAE-2C79-4A4A-8819-B371C1D6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BED-979A-458E-BF61-A18155E4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6C9-FCC2-48D3-90BA-DB1E7878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DCD-4D88-46C5-838C-E54A4AD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993-FA3B-4841-B670-A901D060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58C-473E-473F-A061-FB72401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D7BD-670A-4E43-9D1E-79D6BE57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reading and listening to children's books help us to be better writer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ckb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 readers need to determine the importance of the text they are reading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questions help us to better understand what we are rea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I use a self assessment to make me a better reader and wri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informational and narrative texts diff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become an expert on a topic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text features help you to better understand nonfiction text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text structures help you to better comprehend nonfiction text?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ile you are reading a children's book, how do the details help you to better understand the story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informational and narrative texts differ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become an expert on a topic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text features help you to better understand nonfiction text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text structures help you to better comprehend nonfiction text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use the research process to communicate what we have learned about a su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does it mean to persuade someone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s persuasive text fiction, nonfiction, or can it be both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3:18:37Z</dcterms:created>
  <dc:creator>Abby Owens</dc:creator>
  <dc:description/>
  <dc:language>en-US</dc:language>
  <cp:lastModifiedBy>Abby Owens</cp:lastModifiedBy>
  <dcterms:modified xsi:type="dcterms:W3CDTF">2010-05-28T00:23:41Z</dcterms:modified>
  <cp:revision>25</cp:revision>
  <dc:subject/>
  <dc:title>PowerPoint Presentation</dc:title>
</cp:coreProperties>
</file>